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type.wav" ContentType="audio/x-wav"/>
  <Override PartName="/ppt/media/whoosh.wav" ContentType="audio/x-wav"/>
  <Override PartName="/ppt/media/image4.jpeg" ContentType="image/jpeg"/>
  <Override PartName="/ppt/media/cashreg.wav" ContentType="audio/x-wav"/>
  <Override PartName="/ppt/media/image5.jpeg" ContentType="image/jpeg"/>
  <Override PartName="/ppt/media/image6.jpeg" ContentType="image/jpeg"/>
  <Override PartName="/ppt/media/image7.jpeg" ContentType="image/jpeg"/>
  <Override PartName="/ppt/media/DRUMROLL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  <p:custShowLst>
    <p:custShow name="Custom Show 1" id="0">
      <p:sldLst>
        <p:sld r:id="rId18"/>
        <p:sld r:id="rId19"/>
        <p:sld r:id="rId2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157E-BF78-4F71-A3DC-08AED7A7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3196-A218-46BF-935B-29C2F6CB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14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1400" y="413064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4064-4BDC-4F86-A303-A34A41C3A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5680" y="198108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5560" y="198108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5680" y="413064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5560" y="413064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51F5-2EA6-4303-853E-3CCBDD7F7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AAC5-673E-49AB-AB6A-C5F565D5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BC33-35A4-44FB-B8C2-F237DBD7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1400" y="198108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E3B7-CF57-4FA8-83CA-250C3D3D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EAE8-5FCA-4B76-9E82-63AA3819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3FD5-F780-48CD-AC21-F07D390B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1400" y="198108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6FC8-9E03-4E5F-A3F3-3684FEEE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14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1400" y="413064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9519-5157-4484-8E79-89E71F19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14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D7A0-B859-4A8E-9420-2D02E4ED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bith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abith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Tabith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Tabith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abith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abith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DDD8-AD9A-420E-8EC5-73737A8E7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21080" y="2514600"/>
          <a:ext cx="4117680" cy="346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21080" y="2514600"/>
                    <a:ext cx="4117680" cy="34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879560" y="784080"/>
            <a:ext cx="5392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495680" y="4419720"/>
            <a:ext cx="76320" cy="759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825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325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317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52480" y="541008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diez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86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87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4398840" y="224784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8023400">
              <a:off x="3941640" y="279828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752480" y="541008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cinco 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y diez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107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108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3771600">
              <a:off x="4893840" y="253152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9025800">
              <a:off x="4647600" y="335232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71600" y="541008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ocho 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y cuarto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128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129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 rot="5405400">
              <a:off x="5046480" y="283680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4618400">
              <a:off x="3979800" y="318240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371600" y="541008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tres 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y media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149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150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 rot="10805400">
              <a:off x="4419000" y="350532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rot="5425200">
              <a:off x="4893120" y="302976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33520" y="54100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diez 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menos veinte</a:t>
            </a: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170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171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 flipV="1" rot="3613200">
              <a:off x="3903480" y="3106800"/>
              <a:ext cx="422280" cy="12186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17599800">
              <a:off x="3979080" y="280188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09480" y="54100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siete 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menos cuarto</a:t>
            </a: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191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192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 flipV="1" rot="5379600">
              <a:off x="3751200" y="287712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rot="11991600">
              <a:off x="4224960" y="3429000"/>
              <a:ext cx="422280" cy="91404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447920" y="2362320"/>
            <a:ext cx="6172200" cy="207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¡A ti te toca!</a:t>
            </a:r>
            <a:endParaRPr b="0" lang="en-US" sz="2400" spc="1" strike="noStrike">
              <a:ln w="12600">
                <a:solidFill>
                  <a:srgbClr val="cc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Bar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21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21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 flipV="1" rot="10779600">
              <a:off x="2514240" y="144684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rot="16174800">
              <a:off x="1997640" y="222660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4933440" y="2406600"/>
            <a:ext cx="342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nue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23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23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 flipV="1" rot="10780200">
              <a:off x="2514240" y="144684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rot="10794000">
              <a:off x="2513520" y="274284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4976640" y="2133720"/>
            <a:ext cx="27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se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(en punto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25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25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 rot="10819800">
              <a:off x="2513880" y="274248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rot="3463200">
              <a:off x="2912040" y="2039040"/>
              <a:ext cx="422280" cy="9147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999320" y="2085840"/>
            <a:ext cx="281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d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y medi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33720" y="600120"/>
            <a:ext cx="84970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Comic Sans MS"/>
              </a:rPr>
              <a:t>¿Cómo decimos la hora en español?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38080" y="1805040"/>
            <a:ext cx="7315200" cy="4431240"/>
            <a:chOff x="838080" y="1805040"/>
            <a:chExt cx="7315200" cy="4431240"/>
          </a:xfrm>
        </p:grpSpPr>
        <p:sp>
          <p:nvSpPr>
            <p:cNvPr id="47" name=""/>
            <p:cNvSpPr/>
            <p:nvPr/>
          </p:nvSpPr>
          <p:spPr>
            <a:xfrm>
              <a:off x="838080" y="3048120"/>
              <a:ext cx="7315200" cy="31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buClr>
                  <a:srgbClr val="ffffff"/>
                </a:buClr>
                <a:buFont typeface="Wingdings 2" charset="2"/>
                <a:buChar char="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 Sans MS"/>
                </a:rPr>
                <a:t>Son las ______.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376"/>
                </a:spcBef>
                <a:buClr>
                  <a:srgbClr val="ffffff"/>
                </a:buClr>
                <a:buFont typeface="Wingdings" charset="2"/>
                <a:buChar char="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 Sans MS"/>
                </a:rPr>
                <a:t>Es la _______.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98640" y="1805040"/>
              <a:ext cx="5697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 Sans MS"/>
                </a:rPr>
                <a:t>Para decir la hora…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27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27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 rot="5419800">
              <a:off x="3141000" y="211608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rot="2227800">
              <a:off x="2742840" y="190476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5251320" y="2085840"/>
            <a:ext cx="231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s la u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y cuar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29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29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 rot="3524400">
              <a:off x="2989080" y="181116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rot="5430000">
              <a:off x="2912760" y="226800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007600" y="2085840"/>
            <a:ext cx="279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t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y diez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31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31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 rot="9028200">
              <a:off x="2777400" y="259056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rot="20432400">
              <a:off x="2362320" y="182844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12120" y="2085840"/>
            <a:ext cx="319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o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y veinticinc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33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33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 flipH="1" flipV="1" rot="9028200">
              <a:off x="2208240" y="159948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 rot="12399000">
              <a:off x="2284560" y="266652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4897080" y="2085840"/>
            <a:ext cx="302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sie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enos ci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35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35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 flipH="1" flipV="1" rot="5428800">
              <a:off x="1846080" y="211608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rot="3280800">
              <a:off x="2912760" y="196308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4680360" y="2085840"/>
            <a:ext cx="346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enos cuar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990720" y="2133720"/>
            <a:ext cx="7232400" cy="3581280"/>
            <a:chOff x="990720" y="2133720"/>
            <a:chExt cx="7232400" cy="3581280"/>
          </a:xfrm>
        </p:grpSpPr>
        <p:grpSp>
          <p:nvGrpSpPr>
            <p:cNvPr id="372" name=""/>
            <p:cNvGrpSpPr/>
            <p:nvPr/>
          </p:nvGrpSpPr>
          <p:grpSpPr>
            <a:xfrm>
              <a:off x="990720" y="2133720"/>
              <a:ext cx="2971800" cy="838080"/>
              <a:chOff x="990720" y="2133720"/>
              <a:chExt cx="2971800" cy="838080"/>
            </a:xfrm>
          </p:grpSpPr>
          <p:sp>
            <p:nvSpPr>
              <p:cNvPr id="373" name=""/>
              <p:cNvSpPr/>
              <p:nvPr/>
            </p:nvSpPr>
            <p:spPr>
              <a:xfrm>
                <a:off x="1447920" y="2133720"/>
                <a:ext cx="251460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5:30 p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990720" y="22096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1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998280" y="3505320"/>
              <a:ext cx="2963880" cy="838080"/>
              <a:chOff x="998280" y="3505320"/>
              <a:chExt cx="2963880" cy="838080"/>
            </a:xfrm>
          </p:grpSpPr>
          <p:sp>
            <p:nvSpPr>
              <p:cNvPr id="376" name=""/>
              <p:cNvSpPr/>
              <p:nvPr/>
            </p:nvSpPr>
            <p:spPr>
              <a:xfrm>
                <a:off x="1447560" y="3505320"/>
                <a:ext cx="251460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6:15 a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998280" y="3581280"/>
                <a:ext cx="52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2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998280" y="4876920"/>
              <a:ext cx="2963880" cy="838080"/>
              <a:chOff x="998280" y="4876920"/>
              <a:chExt cx="2963880" cy="838080"/>
            </a:xfrm>
          </p:grpSpPr>
          <p:sp>
            <p:nvSpPr>
              <p:cNvPr id="379" name=""/>
              <p:cNvSpPr/>
              <p:nvPr/>
            </p:nvSpPr>
            <p:spPr>
              <a:xfrm>
                <a:off x="1447560" y="4876920"/>
                <a:ext cx="251460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8:40 p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998280" y="4952880"/>
                <a:ext cx="52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3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4954320" y="2133720"/>
              <a:ext cx="3268800" cy="838080"/>
              <a:chOff x="4954320" y="2133720"/>
              <a:chExt cx="3268800" cy="838080"/>
            </a:xfrm>
          </p:grpSpPr>
          <p:sp>
            <p:nvSpPr>
              <p:cNvPr id="382" name=""/>
              <p:cNvSpPr/>
              <p:nvPr/>
            </p:nvSpPr>
            <p:spPr>
              <a:xfrm>
                <a:off x="5403600" y="2133720"/>
                <a:ext cx="281952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12:00 a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954320" y="2209680"/>
                <a:ext cx="52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4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4954320" y="3505320"/>
              <a:ext cx="3040200" cy="838080"/>
              <a:chOff x="4954320" y="3505320"/>
              <a:chExt cx="3040200" cy="838080"/>
            </a:xfrm>
          </p:grpSpPr>
          <p:sp>
            <p:nvSpPr>
              <p:cNvPr id="385" name=""/>
              <p:cNvSpPr/>
              <p:nvPr/>
            </p:nvSpPr>
            <p:spPr>
              <a:xfrm>
                <a:off x="5403600" y="3505320"/>
                <a:ext cx="259092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9:45 a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954320" y="3581280"/>
                <a:ext cx="52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5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4954320" y="4876920"/>
              <a:ext cx="3040200" cy="838080"/>
              <a:chOff x="4954320" y="4876920"/>
              <a:chExt cx="3040200" cy="838080"/>
            </a:xfrm>
          </p:grpSpPr>
          <p:sp>
            <p:nvSpPr>
              <p:cNvPr id="388" name=""/>
              <p:cNvSpPr/>
              <p:nvPr/>
            </p:nvSpPr>
            <p:spPr>
              <a:xfrm>
                <a:off x="5403600" y="4876920"/>
                <a:ext cx="259092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1:25 p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954320" y="4952880"/>
                <a:ext cx="52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6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0" name=""/>
          <p:cNvSpPr/>
          <p:nvPr/>
        </p:nvSpPr>
        <p:spPr>
          <a:xfrm>
            <a:off x="2114280" y="593640"/>
            <a:ext cx="492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45720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1" fill="hold"/>
                                        <p:tgtEl>
                                          <p:spTgt spid="3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661040" y="593640"/>
            <a:ext cx="584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Jokerman"/>
              </a:rPr>
              <a:t>Las Respuestas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990720" y="2133720"/>
            <a:ext cx="2967120" cy="825480"/>
            <a:chOff x="990720" y="2133720"/>
            <a:chExt cx="2967120" cy="825480"/>
          </a:xfrm>
        </p:grpSpPr>
        <p:sp>
          <p:nvSpPr>
            <p:cNvPr id="394" name=""/>
            <p:cNvSpPr/>
            <p:nvPr/>
          </p:nvSpPr>
          <p:spPr>
            <a:xfrm>
              <a:off x="990720" y="22096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37840" y="2133720"/>
              <a:ext cx="252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n las cinco 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edia de la tard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998280" y="4892760"/>
            <a:ext cx="3243240" cy="825480"/>
            <a:chOff x="998280" y="4892760"/>
            <a:chExt cx="3243240" cy="825480"/>
          </a:xfrm>
        </p:grpSpPr>
        <p:sp>
          <p:nvSpPr>
            <p:cNvPr id="397" name=""/>
            <p:cNvSpPr/>
            <p:nvPr/>
          </p:nvSpPr>
          <p:spPr>
            <a:xfrm>
              <a:off x="998280" y="49528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92120" y="4892760"/>
              <a:ext cx="2849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n las nueve men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einte de la noch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998280" y="3505320"/>
            <a:ext cx="3304440" cy="825480"/>
            <a:chOff x="998280" y="3505320"/>
            <a:chExt cx="3304440" cy="825480"/>
          </a:xfrm>
        </p:grpSpPr>
        <p:sp>
          <p:nvSpPr>
            <p:cNvPr id="400" name=""/>
            <p:cNvSpPr/>
            <p:nvPr/>
          </p:nvSpPr>
          <p:spPr>
            <a:xfrm>
              <a:off x="998280" y="35812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377360" y="3505320"/>
              <a:ext cx="292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n las seis 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uarto de la mañan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4954320" y="1936800"/>
            <a:ext cx="2952360" cy="1191240"/>
            <a:chOff x="4954320" y="1936800"/>
            <a:chExt cx="2952360" cy="1191240"/>
          </a:xfrm>
        </p:grpSpPr>
        <p:sp>
          <p:nvSpPr>
            <p:cNvPr id="403" name=""/>
            <p:cNvSpPr/>
            <p:nvPr/>
          </p:nvSpPr>
          <p:spPr>
            <a:xfrm>
              <a:off x="4954320" y="22096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64880" y="1936800"/>
              <a:ext cx="234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n las doce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a mañan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Es medianoch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4954320" y="4648320"/>
            <a:ext cx="3084480" cy="1191240"/>
            <a:chOff x="4954320" y="4648320"/>
            <a:chExt cx="3084480" cy="1191240"/>
          </a:xfrm>
        </p:grpSpPr>
        <p:sp>
          <p:nvSpPr>
            <p:cNvPr id="406" name=""/>
            <p:cNvSpPr/>
            <p:nvPr/>
          </p:nvSpPr>
          <p:spPr>
            <a:xfrm>
              <a:off x="4954320" y="49528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678640" y="4648320"/>
              <a:ext cx="2360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s la una 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einticinco de l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rd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4954320" y="3505320"/>
            <a:ext cx="3386880" cy="825480"/>
            <a:chOff x="4954320" y="3505320"/>
            <a:chExt cx="3386880" cy="825480"/>
          </a:xfrm>
        </p:grpSpPr>
        <p:sp>
          <p:nvSpPr>
            <p:cNvPr id="409" name=""/>
            <p:cNvSpPr/>
            <p:nvPr/>
          </p:nvSpPr>
          <p:spPr>
            <a:xfrm>
              <a:off x="4954320" y="35812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415840" y="3505320"/>
              <a:ext cx="292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n las diez men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uarto de la mañan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Bar dir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495680"/>
            <a:ext cx="7086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Wingdings 2" charset="2"/>
              <a:buChar char="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ara la media hor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“…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y media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517680"/>
            <a:ext cx="5867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Wingdings 2" charset="2"/>
              <a:buChar char="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espués de la hor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“…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y…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0200" y="2498760"/>
            <a:ext cx="57913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Wingdings 2" charset="2"/>
              <a:buChar char="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ara la cuarta hor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“…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y cuarto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1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24160" y="461880"/>
            <a:ext cx="810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ero,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despué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de la media hor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286000" y="2057400"/>
            <a:ext cx="4191120" cy="3809880"/>
            <a:chOff x="2286000" y="2057400"/>
            <a:chExt cx="4191120" cy="3809880"/>
          </a:xfrm>
        </p:grpSpPr>
        <p:sp>
          <p:nvSpPr>
            <p:cNvPr id="54" name=""/>
            <p:cNvSpPr/>
            <p:nvPr/>
          </p:nvSpPr>
          <p:spPr>
            <a:xfrm>
              <a:off x="2286000" y="2057400"/>
              <a:ext cx="3886200" cy="3809880"/>
            </a:xfrm>
            <a:prstGeom prst="ellipse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267080" y="2057400"/>
              <a:ext cx="0" cy="380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76920" y="3565440"/>
              <a:ext cx="160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…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y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724280" y="2437920"/>
              <a:ext cx="0" cy="304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733920" y="2437920"/>
              <a:ext cx="0" cy="304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13560" y="2419200"/>
              <a:ext cx="60912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Comic Sans MS"/>
                </a:rPr>
                <a:t>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Comic Sans MS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Comic Sans MS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Comic Sans MS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Comic Sans MS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Bar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9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682640" y="685800"/>
            <a:ext cx="6048720" cy="1582920"/>
            <a:chOff x="1682640" y="685800"/>
            <a:chExt cx="6048720" cy="1582920"/>
          </a:xfrm>
        </p:grpSpPr>
        <p:sp>
          <p:nvSpPr>
            <p:cNvPr id="61" name=""/>
            <p:cNvSpPr/>
            <p:nvPr/>
          </p:nvSpPr>
          <p:spPr>
            <a:xfrm>
              <a:off x="1682640" y="1092240"/>
              <a:ext cx="1809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It is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92560" y="685800"/>
              <a:ext cx="263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Son las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01120" y="10875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116680" y="1565280"/>
              <a:ext cx="202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Es la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641960" y="3828960"/>
            <a:ext cx="5551200" cy="1582920"/>
            <a:chOff x="1641960" y="3828960"/>
            <a:chExt cx="5551200" cy="1582920"/>
          </a:xfrm>
        </p:grpSpPr>
        <p:sp>
          <p:nvSpPr>
            <p:cNvPr id="66" name=""/>
            <p:cNvSpPr/>
            <p:nvPr/>
          </p:nvSpPr>
          <p:spPr>
            <a:xfrm>
              <a:off x="1641960" y="4235400"/>
              <a:ext cx="1454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At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28920" y="3828960"/>
              <a:ext cx="206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A las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07600" y="42307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26760" y="4708440"/>
              <a:ext cx="1820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A la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374920" y="2435400"/>
            <a:ext cx="441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s la una de la tar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21840" y="5546880"/>
            <a:ext cx="669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ngo clase a la una de la tar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971640" y="2997360"/>
            <a:ext cx="5486400" cy="2733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908000" y="1916280"/>
            <a:ext cx="6264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Comic Sans MS"/>
              </a:rPr>
              <a:t>of the morning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58920" y="836640"/>
            <a:ext cx="5329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Comic Sans MS"/>
              </a:rPr>
              <a:t>de la ma</a:t>
            </a: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ñan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55640" y="2349360"/>
            <a:ext cx="3463920" cy="3970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050920" y="1628640"/>
            <a:ext cx="6264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Comic Sans MS"/>
              </a:rPr>
              <a:t>of the afterno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58920" y="836640"/>
            <a:ext cx="5329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Comic Sans MS"/>
              </a:rPr>
              <a:t>de la tar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84360" y="2786040"/>
            <a:ext cx="4751280" cy="3564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050920" y="1844640"/>
            <a:ext cx="6264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Comic Sans MS"/>
              </a:rPr>
              <a:t>of the evening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58920" y="836640"/>
            <a:ext cx="5329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Comic Sans MS"/>
              </a:rPr>
              <a:t>de la noch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900000" y="2708280"/>
            <a:ext cx="3621240" cy="3651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258920" y="836640"/>
            <a:ext cx="5329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Comic Sans MS"/>
              </a:rPr>
              <a:t>de la madrugad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79640" y="1916280"/>
            <a:ext cx="6264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Comic Sans MS"/>
              </a:rPr>
              <a:t>of the early morning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7T00:58:34Z</dcterms:created>
  <dc:creator>Craig Tillmann</dc:creator>
  <dc:description/>
  <dc:language>en-US</dc:language>
  <cp:lastModifiedBy>Alice</cp:lastModifiedBy>
  <dcterms:modified xsi:type="dcterms:W3CDTF">2008-05-20T16:14:46Z</dcterms:modified>
  <cp:revision>28</cp:revision>
  <dc:subject/>
  <dc:title>No Slide Title</dc:title>
</cp:coreProperties>
</file>